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615-C832-4B18-9749-27DE2146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E6E-82A9-4308-BCCD-29BD818B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15D-5CC8-4AD9-8422-BA837F0F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4B0-A98E-4246-9A82-65C081CE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EFCF-2C76-4A6B-9F6B-02BF4C6C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1442-943F-4FF7-A2F3-DA758025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86C4-3A2B-42D5-B0FA-A4A8FA48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6C8A-07A5-4189-988E-7E1CC656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55CF-D7FA-476C-856E-B40F175E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689C-EC34-43AF-86BB-8C3FE565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699F-3C93-403A-976D-200CB33B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94D-F5AB-4613-AF0D-C3A371DB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BA9C-E376-42E4-9584-40143743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788B-44EC-498B-AB89-E8F3981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6FA1-3327-44D6-8AD2-D3EB8292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FD93-B431-45B5-9680-6BA79676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5BD5-BB68-4FFC-B814-F4BAF476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544-0BEE-429D-94D2-00545B49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56A-A317-4ACF-8F50-25A57A4E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B29-385E-4122-8A56-228A1C9D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B83-6897-47B2-9FEA-726CAB7F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F1C-8241-4BD2-B8F7-D2F0D9A9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970-2074-418A-94C8-6DA21CA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8A9-1BE1-4021-8E9D-924413FE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C82A-810F-4911-923B-E2D8C4DAFE57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95B8-6D93-40A4-B8CB-B268CCD12095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oftware/Interactive Whiteboards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Notebook Software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tools did you use for your presentation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s the presentation engaging and what could make it more engaging or better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can I effectively use notebook software tools to enhance presentation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the tools available to type, write and create different text fonts?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to use the gallery to enhance presentations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ny of you see lessons in notebook presented to you on a regular basi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hance presentation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you will learn how to navigate through the software and utilize tool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re do you find coordinates grid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find the interactive scale from the gallery to demonstrate weight change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find other useful tools that you may use in your presentation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ow it is your turn to try it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some interesting features you might use? 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ich one should we try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Today you will use the features on the toolbar and the gallery to create a presentation on your favorite hobby.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After 20 minutes we will get back together and share our presentation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1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earch and select images related to your hobby.</a:t>
            </a:r>
            <a:br>
              <a:rPr sz="2800"/>
            </a:b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2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ype the text that explain the details about your hobby.</a:t>
            </a:r>
            <a:br>
              <a:rPr sz="2800"/>
            </a:b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3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Change the background color, use different font, borders, colors, place pictures etc.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11-17T18:53:06Z</dcterms:modified>
  <cp:revision>4</cp:revision>
  <dc:subject/>
  <dc:title>Workshop Title</dc:title>
</cp:coreProperties>
</file>